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485-D992-485D-B4CE-6D34B2AE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6C9-1492-40BE-AFF4-94CEFD43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A17-2B3D-4681-81E9-6C6A2595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8BB-5F8F-4E84-AE5B-AE3B6E28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ED6-EA21-4128-8B67-7FF0C75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8BD-EB3D-4257-B7F3-B27F5BD0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1F3-9514-412E-A2AD-E8AD41A8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B98-4313-49E9-8026-51394DB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4F0-6C81-46E5-941D-2F129028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7ED-30E4-4D26-805B-3A88D09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20D-709F-4CB7-BD5E-0F5D8AC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693-2929-4542-94AC-DDD8BDDF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BE5B-F1E3-46D5-ABA5-F140FF0F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eigh, Joelle ,and Co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762120"/>
            <a:ext cx="2971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okerman"/>
              </a:rPr>
              <a:t>Climat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ly flat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ich black soil good for farming- makes abund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er growing season than the res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mperature is mode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nd in the south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smal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52680" y="533520"/>
            <a:ext cx="28195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epp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spects about the steppe clim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not a lot of rain the wheat crops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 good hunting area because of smal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not predict if they will have a rainy or d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armers will have trouble choosing what crops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90920" y="914400"/>
            <a:ext cx="11430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 and rolling treeless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top few inches of ground thaw out in the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manently frozen layers of soil are called permafr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ndra covers 40 percen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ndra climate is located in northern Russia ( Siberi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14800" y="685800"/>
            <a:ext cx="1305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undr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543960" cy="67435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Biggest climate zone i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ew people live in subarctic because it has very cold and bitter w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emperatures only rise above freezing in the su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Located mostly everywhere in Russia except for Southwes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29000" y="533520"/>
            <a:ext cx="24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Subarc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land Europe, Asia or North America have this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ng, cold, and snowy winters-things freeze, short growing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ort but very hot su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arge grasslands and deciduous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362320" y="457200"/>
            <a:ext cx="459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mid continent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bad things about the climate in Russia and how the Russian people adjust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regions there subsoil is covered by snow six months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the climate has helped Russia i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ussians have used their harsh winters to make their enemies retreat from invad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one situation the French tried to invade them and the Russians led them into Moscow leaving them with no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other time the German army tried invading Russia. They were in sight  of Moscow when winter hit. Everything froze (including them) and they re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watching our slide 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43:18Z</dcterms:created>
  <dc:creator> </dc:creator>
  <dc:description/>
  <dc:language>en-US</dc:language>
  <cp:lastModifiedBy> </cp:lastModifiedBy>
  <dcterms:modified xsi:type="dcterms:W3CDTF">2010-12-20T16:06:32Z</dcterms:modified>
  <cp:revision>6</cp:revision>
  <dc:subject/>
  <dc:title>Climate</dc:title>
</cp:coreProperties>
</file>